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32C-B21C-40D1-AF64-5957F1D1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34A-E1C7-4BA7-9AA7-804DF1F5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EC8-6EFB-4634-977F-CB4BD028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BC5-8FA9-4BDD-98A8-7C392231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D3B-32C3-42D4-BDF6-6BA07B4C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2FD-7D6E-4082-ACA7-AA0712D4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E0D-A14A-4098-96D2-2D213F4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D31-87A3-48E7-B196-81C4A17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B82-0FEA-487C-8DFF-26AE471D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982-D264-40D4-9422-1A530107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DB7-3426-47E4-BFE0-D86EAC5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57-25F0-41EC-8450-F3D0AEC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B73-D5C7-4F86-9388-2ADBF16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9EE-158E-4B07-BF20-AE4F5D9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B782-993C-45BE-A55D-1F58E2D9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ncurringopinions.com/archives/images/constitution5.jpg&amp;imgrefurl=http://www.concurringopinions.com/archives/constitutional_law/&amp;h=283&amp;w=300&amp;sz=249&amp;hl=en&amp;start=106&amp;um=1&amp;usg=__FJ031zp1WjqecSvG-0SezS00F-U=&amp;tbnid=QfNshgVqIY4IkM:&amp;tbnh=109&amp;tbnw=116&amp;prev=/images%3Fq%3Divory%2Bcoast%2Bconstitution%26start%3D90%26ndsp%3D18%26um%3D1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eline Lu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bb4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Ivory Coast is located in West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It is surrounded by Mali, Burkina Faso, Ghana, Liberia, and Gui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Also called Cote d'Ivo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o to fullsize image"/>
          <p:cNvPicPr/>
          <p:nvPr/>
        </p:nvPicPr>
        <p:blipFill>
          <a:blip r:embed="rId1"/>
          <a:stretch/>
        </p:blipFill>
        <p:spPr>
          <a:xfrm>
            <a:off x="5410080" y="1981080"/>
            <a:ext cx="2506680" cy="2847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vory Coas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637, missionaries landed at Assignee near the Gold Co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 Coast became independent on August 7,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november 3, 1960, Ivory Coast adopts constit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486160" cy="401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important that missionaries landed in Ivory Coast because if they didn’t Ivory coast would not have been disco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vory Coast did not become independent then the French would still have control over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vory Coast adopted a constitution it had all the countries rules so it would be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onstitution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3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ctober 31, 1960, the National Assembly of Ivory Coast adopted the Constitution establishing an independent republ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88 governance in Ivory Coast remained the province of one man: President Félix Houphouët-Boigny, affectionately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 vie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 old m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felix"/>
          <p:cNvPicPr/>
          <p:nvPr/>
        </p:nvPicPr>
        <p:blipFill>
          <a:blip r:embed="rId1"/>
          <a:stretch/>
        </p:blipFill>
        <p:spPr>
          <a:xfrm>
            <a:off x="5943600" y="1905120"/>
            <a:ext cx="1889280" cy="2319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4958280" y="441972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Félix Houphouët-Boig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020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portation Equi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co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pical W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rol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neap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m O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74480" cy="137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16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week long carnival in Bouaké each M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Ivory Coast’s most famous festivals is the Fêtes des Masques (Festival of Masks) in Nov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Muslim holiday is Ramadan where every one fast between sun-up and sun-down. (Near Dec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cer is also a very popular sport in Ivory Co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Go to fullsize image"/>
          <p:cNvPicPr/>
          <p:nvPr/>
        </p:nvPicPr>
        <p:blipFill>
          <a:blip r:embed="rId1"/>
          <a:stretch/>
        </p:blipFill>
        <p:spPr>
          <a:xfrm>
            <a:off x="5638680" y="1752480"/>
            <a:ext cx="1524240" cy="1146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5562720" y="2971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stival of M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Chelsea forward Salomon Kalou of the Ivory Coast, left, controls..."/>
          <p:cNvPicPr/>
          <p:nvPr/>
        </p:nvPicPr>
        <p:blipFill>
          <a:blip r:embed="rId2"/>
          <a:stretch/>
        </p:blipFill>
        <p:spPr>
          <a:xfrm>
            <a:off x="5638680" y="3733920"/>
            <a:ext cx="1524240" cy="123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562720" y="45720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38680" y="50292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ory Coast soc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b6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happen in Ivory Co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uture of Ivory Coast is unpredictable. But there one of the many outcome could be that since there is a recent unstable government that it will become more s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620800" cy="2485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571500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ng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05:12Z</dcterms:created>
  <dc:creator>madelinelutz</dc:creator>
  <dc:description/>
  <dc:language>en-US</dc:language>
  <cp:lastModifiedBy>owner</cp:lastModifiedBy>
  <dcterms:modified xsi:type="dcterms:W3CDTF">2008-11-12T01:08:38Z</dcterms:modified>
  <cp:revision>22</cp:revision>
  <dc:subject/>
  <dc:title>Ivory Coast</dc:title>
</cp:coreProperties>
</file>